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3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4.jpeg" ContentType="image/jpeg"/>
  <Override PartName="/ppt/media/image23.jpeg" ContentType="image/jpeg"/>
  <Override PartName="/ppt/media/image12.png" ContentType="image/png"/>
  <Override PartName="/ppt/media/image21.png" ContentType="image/png"/>
  <Override PartName="/ppt/media/image19.png" ContentType="image/png"/>
  <Override PartName="/ppt/media/image20.jpeg" ContentType="image/jpeg"/>
  <Override PartName="/ppt/media/image28.jpeg" ContentType="image/jpeg"/>
  <Override PartName="/ppt/media/image18.png" ContentType="image/png"/>
  <Override PartName="/ppt/media/image6.jpeg" ContentType="image/jpeg"/>
  <Override PartName="/ppt/media/image22.jpeg" ContentType="image/jpeg"/>
  <Override PartName="/ppt/media/image9.png" ContentType="image/png"/>
  <Override PartName="/ppt/media/image39.png" ContentType="image/png"/>
  <Override PartName="/ppt/media/image38.png" ContentType="image/png"/>
  <Override PartName="/ppt/media/image8.png" ContentType="image/png"/>
  <Override PartName="/ppt/media/image7.png" ContentType="image/png"/>
  <Override PartName="/ppt/media/image37.png" ContentType="image/png"/>
  <Override PartName="/ppt/media/image27.jpeg" ContentType="image/jpeg"/>
  <Override PartName="/ppt/media/image10.png" ContentType="image/png"/>
  <Override PartName="/ppt/media/image30.png" ContentType="image/png"/>
  <Override PartName="/ppt/media/image11.png" ContentType="image/png"/>
  <Override PartName="/ppt/media/image35.png" ContentType="image/png"/>
  <Override PartName="/ppt/media/image5.jpeg" ContentType="image/jpeg"/>
  <Override PartName="/ppt/media/image26.jpeg" ContentType="image/jpeg"/>
  <Override PartName="/ppt/media/image36.png" ContentType="image/png"/>
  <Override PartName="/ppt/media/image13.jpeg" ContentType="image/jpeg"/>
  <Override PartName="/ppt/media/image34.png" ContentType="image/png"/>
  <Override PartName="/ppt/media/image4.png" ContentType="image/png"/>
  <Override PartName="/ppt/media/image33.png" ContentType="image/png"/>
  <Override PartName="/ppt/media/image3.png" ContentType="image/png"/>
  <Override PartName="/ppt/media/image32.png" ContentType="image/png"/>
  <Override PartName="/ppt/media/image2.png" ContentType="image/png"/>
  <Override PartName="/ppt/media/image25.jpeg" ContentType="image/jpeg"/>
  <Override PartName="/ppt/media/image31.png" ContentType="image/png"/>
  <Override PartName="/ppt/media/image1.png" ContentType="image/png"/>
  <Override PartName="/ppt/media/image14.png" ContentType="image/png"/>
  <Override PartName="/ppt/media/image15.jpeg" ContentType="image/jpeg"/>
  <Override PartName="/ppt/media/image16.jpeg" ContentType="image/jpeg"/>
  <Override PartName="/ppt/media/image17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</p:sldIdLst>
  <p:sldSz cx="9144000" cy="6858000"/>
  <p:notesSz cx="6858000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75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2600" y="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992160" y="731520"/>
            <a:ext cx="4872240" cy="365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260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85CE3-43FF-4972-9366-2BFD06584A46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992160" y="731880"/>
            <a:ext cx="4872240" cy="36558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3" name="슬라이드 번호 개체 틀 3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4D2B5-EC50-4089-8D53-5A23282C1C57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32E55-102B-4EDF-A8DF-95F420905581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5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5A95A-36FC-4A07-A5EE-35FAF01FE97D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31942-D0AE-4E1C-B019-1709029E5255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1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C3511-AA14-451B-B667-2D92CBE360E4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4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58153-7C51-4293-B9DA-0DC5B35A2B17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7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CC46B-E43E-4FA6-9598-3DCB9680545E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0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1D115-7019-4C9E-8924-84B92E124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2742B-2AD8-4BD1-BECE-0CAD38C4E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4C040-C897-4517-B331-FC01985DF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81149-DFB3-40E4-85EE-0202DDE97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46132-BB85-4D8D-8ABB-3AC3516EC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B4163-9A9D-4A02-88A3-47A9A4DBC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ABD62-EB11-4CCF-AE22-CA49416DD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6A092-EDC0-4B0D-A83B-0853C8678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77ECD-AAD1-411D-AB11-D95D351BA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8D37C-38BD-4CDF-B2B0-3ED61CF41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B1969-8B7A-4F9B-88F7-ACB0B7BC4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FF939-004A-414D-89ED-CBEC8113B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4C958-75C5-4669-857B-80834897D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063FA-EFF4-4350-B790-E51BCBD1C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DFAFA-E65F-4E5F-BB46-DC13484BD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289FA-6B80-4B94-AEED-49D6E15EF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80B75-B0C7-4B6E-9075-5754B9589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74E00E-0905-483E-8311-13879931D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F7585A-EF99-4D3D-921A-E7274DDF3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FE86EB-B9AA-4CC7-AAA7-C46AB09D7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568643-F114-4582-887F-49A1A4BF1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1C8B9A-7D52-41EE-B79B-FADBA7146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8CB89-8697-42A6-89D7-DB55A9545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BCC7E0-7BFF-4610-B400-79286141A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B150C1-ED9C-4646-95A4-6596EB596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D56BE2-DD03-4C5E-A5FE-CE806EAE4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56750E-4F57-4DFC-9771-ABE62E5B1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E2014D-75BE-4F02-89EA-E7DDC9267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D8A5CF-0038-4164-9D0E-E0CB53CB4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01CC71-A1F5-4D86-BEAE-1E8D36EB2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20513B-7D6D-416F-A27B-5866420D9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ADE116-514A-4731-B63A-7FD2AA6AD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AF973F-246B-4F50-884E-8D26CC0D6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AC8F5-2CB0-43ED-A164-D80495B21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38B15B-067E-4BE6-A5B6-5A9D363E2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DB6C7F-2256-4BB6-97DE-1FFF17FE1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BF0D84-BA60-4245-AAE5-8EC7D2214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11BF62-3885-4848-AF76-EF09DF93A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2A64FD-A295-48E2-8D92-7745E339A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1725BD-AA41-4865-BA9D-1F01D12D7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4CD776-2705-43D8-8AEA-02EA564FC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1C3C8E-1CB9-43E3-A46A-0DD255E9A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69FF69-6D4A-4721-9F8A-2FBEC3845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0E4FCE-9126-46E0-900E-77280F2FD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08B00-DE6A-495E-A4AD-3A1B64A11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AA558B-9915-45D3-A88F-899B80F77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F5E4A2-5BF6-40F8-A6D6-00F6C7B6A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EEDFB5-BF50-493A-A3E0-EBAFB24D2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215079-845B-4F38-8967-F0A1BE233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7829CC-C146-4F9A-9A0C-5F96C3FB9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2A36DE-2874-4257-8C6C-280CE4D90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1284FD-8D2A-4EB8-9607-4878DC540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A74CC4-6D79-476A-BDFD-91953C116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E37123-719A-4F26-97BE-666C98BFC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DC5D0E-6E0E-4E89-B3D8-BF9F04FF5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15886-D738-410F-9A20-EDC174605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89F328-E79D-4269-A843-42D9B5F7E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1B532C-D2CC-4AFC-BBE9-B9063B564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45392F-0A33-47D6-A43F-1AD190FD1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9C04CD-FC8D-4A16-856A-EE99EC780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975E7F-B8A7-4D7E-9D5F-967E86918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2672B3-8F18-4766-9E68-B0B282F6D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7DBEC3-FA7F-4B26-AF0B-A47E10873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9BE202-E5FD-434B-9F20-9CE32FF84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0CFC76-D8D8-4EE7-9F55-6A5DA1FA7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FC7E67-34F1-40ED-98DA-25D701836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C5103-4F5E-4643-AB2D-41BCC55B5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E285F9-6A73-403B-9BCA-DC5DCE536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B03C97-5582-4366-B8D5-1A8B4D8AB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9E1E78-2C0D-4BE5-9F5B-C89FFDCEA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BD2ACF-99EE-45BE-B8D9-C1F14DD4F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E31014-B479-40CA-808F-D7FEDD58F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A33B28-CA2A-4ED2-8253-2EEBE62AE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53CC33-6249-49D1-81D9-E541BD0BA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205765-F2FC-4521-9C6E-42CF9829E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B6069F-0776-49DF-8182-005CB23F7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EF01B3-F1BD-41D2-973C-6F026DD2C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A6CE2-1399-4845-969E-26F58B8A6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4D7B57-6B00-447F-884C-85A572076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73FF34-304F-4682-820B-AFC806F75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DE0524-B779-4C08-99D8-EE5CFD978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ED0F46-B69F-4F43-BE0E-8E49FA121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8CF379-DDE7-4C4A-95EE-A78A2A5A3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F5D13E-67C7-4AD7-83C0-4D71D70A5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72B25E-44E0-442F-A0A1-692D9EEA7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09B0C4-43DE-48D9-8892-DE2B22B2F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F99767-E859-4547-9345-61B1C12BF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F36AC4-221E-4177-85CE-FCA8EA6A4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7E970-DB07-4D59-9335-FF0BCF1B3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DAF8D5-87C3-4365-B0CE-9D4A7A588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00E81F-0304-4141-A956-98BDB1490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230D4A-28A2-4D42-9EC0-1642FA61D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12801C-58C9-4E17-81C0-FABB8A977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2A2FD5-25B0-48D9-89D4-0C77671A5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F8A602-8690-48FC-A92A-92695414B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6F937C-B75B-4727-A105-F4C8242AC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직각 삼각형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5" name="직선 연결선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75A31-31BC-4CEB-888B-272C99F8BC3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직각 삼각형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8" name="그룹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자유형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0" name="자유형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1" name="자유형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자유형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pic>
          <p:nvPicPr>
            <p:cNvPr id="54" name="직선 연결선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E8C9B-A299-4959-ABF7-31E7896622D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98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직각 삼각형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101" name="직선 연결선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갈매기형 수장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갈매기형 수장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81A1B-FB7D-4AD8-AF4E-ED6DF928367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7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직각 삼각형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150" name="직선 연결선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12AA7-AE29-450A-B344-B7E98D7FE66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40DBF-B510-4EDE-B5F3-C82984D39A4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35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직각 삼각형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238" name="직선 연결선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BA70D-5985-43C2-A76C-873A944286A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AA0A9-DE81-42C3-8702-52D76C7A504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자유형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2" name="자유형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323" name="직각 삼각형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직각 삼각형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326" name="직선 연결선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갈매기형 수장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8" name="갈매기형 수장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66F62-D480-4386-A47C-663E2228217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Rectangle 2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137440" cy="184752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685440" y="3886200"/>
            <a:ext cx="8226360" cy="17524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46"/>
                </a:solidFill>
                <a:latin typeface="Lucida Sans Unicode"/>
              </a:rPr>
              <a:t>                                                  </a:t>
            </a:r>
            <a:r>
              <a:rPr b="0" lang="en-US" sz="2200" spc="-1" strike="noStrike">
                <a:solidFill>
                  <a:srgbClr val="464646"/>
                </a:solidFill>
                <a:latin typeface="HY강B"/>
                <a:ea typeface="HY강B"/>
              </a:rPr>
              <a:t>5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조 김보기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조원준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강경구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하수은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신한별 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457200" y="1241280"/>
            <a:ext cx="8229600" cy="476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톨루엔 성분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포름알데히드 함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벤젠의 수소원자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개를 메틸기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基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로 치환한 화합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무색의 액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석탄을 건류하여 얻은 경유를 황산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으로 씻은 다음 정류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精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)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하여 만듬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피부 보호막 녹이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 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피부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두통 일으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중추신경 장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혼수상태 등 유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0" name="Rectangle 2" descr=""/>
          <p:cNvPicPr/>
          <p:nvPr/>
        </p:nvPicPr>
        <p:blipFill>
          <a:blip r:embed="rId1"/>
          <a:stretch/>
        </p:blipFill>
        <p:spPr>
          <a:xfrm>
            <a:off x="360360" y="268200"/>
            <a:ext cx="833292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 txBox="1"/>
          <p:nvPr/>
        </p:nvSpPr>
        <p:spPr>
          <a:xfrm>
            <a:off x="272880" y="1323720"/>
            <a:ext cx="8413920" cy="480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포름알데히드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함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메탄올을 산화시켜 얻는 기체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로자극적인  냄새 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환원성이 강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알레르기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접촉성 피부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두드러기 등 일으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결막에 큰 자극줌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2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 txBox="1"/>
          <p:nvPr/>
        </p:nvSpPr>
        <p:spPr>
          <a:xfrm>
            <a:off x="457200" y="122868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접착부분이 화학성분으로 이루어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짐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포름알데히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(Formaldehyde)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검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눈두덩 피부를 자극하여 염증이 생기거나  색소침착이 생겨 단단하게 만듬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장기간 사용할 경우 피부가 늘어지게 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려움증으로 눈이 빨갛게 충혈되는 현상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발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4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고정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가발 망의 실리콘 테두리를 이용하여 두피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에 고정하는 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탈 부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의료용 양면 테이프를 이용하여 고정하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는 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혼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특수 제작된 패치를 이용하여 자신의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모발이나 두피에 부착하는 다기능 부착공법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6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 txBox="1"/>
          <p:nvPr/>
        </p:nvSpPr>
        <p:spPr>
          <a:xfrm>
            <a:off x="457200" y="2101320"/>
            <a:ext cx="4038480" cy="40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408" name="Picture 5" descr="http://cfs12.blog.daum.net/original/16/blog/2008/02/19/12/11/47ba48c55d83c&amp;filename=DSC00419.JPG"/>
          <p:cNvPicPr/>
          <p:nvPr/>
        </p:nvPicPr>
        <p:blipFill>
          <a:blip r:embed="rId1"/>
          <a:stretch/>
        </p:blipFill>
        <p:spPr>
          <a:xfrm>
            <a:off x="4681440" y="1346040"/>
            <a:ext cx="3784680" cy="4534200"/>
          </a:xfrm>
          <a:prstGeom prst="rect">
            <a:avLst/>
          </a:prstGeom>
          <a:ln w="0">
            <a:noFill/>
          </a:ln>
        </p:spPr>
      </p:pic>
      <p:pic>
        <p:nvPicPr>
          <p:cNvPr id="409" name="제목 11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17" descr="5409209782"/>
          <p:cNvPicPr/>
          <p:nvPr/>
        </p:nvPicPr>
        <p:blipFill>
          <a:blip r:embed="rId3"/>
          <a:stretch/>
        </p:blipFill>
        <p:spPr>
          <a:xfrm>
            <a:off x="457200" y="1346040"/>
            <a:ext cx="4224240" cy="478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눈이 가늘고 좁은 경우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속눈썹길이 반으로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잘라 눈썹 끝에만 붙임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속 쌍꺼풀인 경우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속눈썹길이 반보다 길게 잘   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라 눈앞머리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1/3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띄우고 붙임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눈에 힘이 없고 라인이 분명 하지 않은 경우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부분속눈썹을 전체적으로 붙임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2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Picture 7" descr="1111"/>
          <p:cNvPicPr/>
          <p:nvPr/>
        </p:nvPicPr>
        <p:blipFill>
          <a:blip r:embed="rId1"/>
          <a:stretch/>
        </p:blipFill>
        <p:spPr>
          <a:xfrm>
            <a:off x="457200" y="1855800"/>
            <a:ext cx="3695760" cy="352116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9" descr="이미지 썸네일"/>
          <p:cNvPicPr/>
          <p:nvPr/>
        </p:nvPicPr>
        <p:blipFill>
          <a:blip r:embed="rId2"/>
          <a:stretch/>
        </p:blipFill>
        <p:spPr>
          <a:xfrm>
            <a:off x="4152960" y="1855800"/>
            <a:ext cx="4295880" cy="3521160"/>
          </a:xfrm>
          <a:prstGeom prst="rect">
            <a:avLst/>
          </a:prstGeom>
          <a:ln w="0">
            <a:noFill/>
          </a:ln>
        </p:spPr>
      </p:pic>
      <p:pic>
        <p:nvPicPr>
          <p:cNvPr id="415" name="Rectangle 5" descr=""/>
          <p:cNvPicPr/>
          <p:nvPr/>
        </p:nvPicPr>
        <p:blipFill>
          <a:blip r:embed="rId3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 txBox="1"/>
          <p:nvPr/>
        </p:nvSpPr>
        <p:spPr>
          <a:xfrm>
            <a:off x="457200" y="1599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7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1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19" name="Picture 3" descr="C:\Documents and Settings\user\바탕 화면\1.JPG"/>
          <p:cNvPicPr/>
          <p:nvPr/>
        </p:nvPicPr>
        <p:blipFill>
          <a:blip r:embed="rId2"/>
          <a:stretch/>
        </p:blipFill>
        <p:spPr>
          <a:xfrm>
            <a:off x="1986120" y="2219400"/>
            <a:ext cx="5171760" cy="161604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4" descr="C:\Documents and Settings\user\바탕 화면\2.JPG"/>
          <p:cNvPicPr/>
          <p:nvPr/>
        </p:nvPicPr>
        <p:blipFill>
          <a:blip r:embed="rId3"/>
          <a:stretch/>
        </p:blipFill>
        <p:spPr>
          <a:xfrm>
            <a:off x="1986120" y="3835440"/>
            <a:ext cx="5171760" cy="16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1" descr="C:\Documents and Settings\user\바탕 화면\3.JPG"/>
          <p:cNvPicPr/>
          <p:nvPr/>
        </p:nvPicPr>
        <p:blipFill>
          <a:blip r:embed="rId2"/>
          <a:stretch/>
        </p:blipFill>
        <p:spPr>
          <a:xfrm>
            <a:off x="457200" y="1663560"/>
            <a:ext cx="5229360" cy="144936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2" descr="C:\Documents and Settings\user\바탕 화면\4.JPG"/>
          <p:cNvPicPr/>
          <p:nvPr/>
        </p:nvPicPr>
        <p:blipFill>
          <a:blip r:embed="rId3"/>
          <a:stretch/>
        </p:blipFill>
        <p:spPr>
          <a:xfrm>
            <a:off x="2335320" y="1663560"/>
            <a:ext cx="5200560" cy="1449360"/>
          </a:xfrm>
          <a:prstGeom prst="rect">
            <a:avLst/>
          </a:prstGeom>
          <a:ln w="0">
            <a:noFill/>
          </a:ln>
        </p:spPr>
      </p:pic>
      <p:sp>
        <p:nvSpPr>
          <p:cNvPr id="424" name="TextBox 6"/>
          <p:cNvSpPr/>
          <p:nvPr/>
        </p:nvSpPr>
        <p:spPr>
          <a:xfrm>
            <a:off x="457200" y="3421080"/>
            <a:ext cx="82296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붙일 위치를 깨끗이 닦아 쌍 커풀 라인 위치 잡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2. Y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자 스틱을 투명테이프에 반 정도 붙여 테이프를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살짝</a:t>
            </a: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눌러줌</a:t>
            </a: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3. Y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자 스틱으로 쌍 커풀 테이프를 눌러 라인 형성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하여 안정이 되게 함</a:t>
            </a: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 txBox="1"/>
          <p:nvPr/>
        </p:nvSpPr>
        <p:spPr>
          <a:xfrm>
            <a:off x="177480" y="1187280"/>
            <a:ext cx="8761320" cy="481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1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클립으로 탈착 할수 있는 형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필요와 사용목적에 따라 클립을 사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1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머리핀을 이용한 인조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머리 치장을 위해 모발 염색을 해야하는 불편함과 모발손상을 없애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모발 어느 위치에도 간편하게 다양한 칼라의 머리카락을 위치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개성 있게 표현할 수 있음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6" name="제목 8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7200" y="1143000"/>
            <a:ext cx="40384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접착 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1.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미용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가발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인조속눈썹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아이참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1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이용 목적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2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종류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3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접착 성분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4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유해물질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5)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착용방법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과정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6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해결방안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Lucida Sans Unicode"/>
              </a:rPr>
              <a:t>               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648320" y="1143000"/>
            <a:ext cx="40384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2.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식품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: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푸드바인드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멜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    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라민파동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1)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피해사례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2)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해결방안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81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속눈썹연장세럼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자연성분인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펩타이드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 주원료로 부작용없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효과가 확실하며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주 정도 사용으로 확실하게 달라진 속눈썹을 느낄 수 있음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펩타이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미노산의 중합체임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소수의 아미노산이 연결된 형태→ 펩티드많은 아미노산이 연결→단백질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8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피부가 쳐지는 경향이 있으므로 가능하면 사용을 자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매몰 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절개 법 시술로 비용은 들지만 효과는 아이참 보다 배로 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0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 txBox="1"/>
          <p:nvPr/>
        </p:nvSpPr>
        <p:spPr>
          <a:xfrm>
            <a:off x="627120" y="2169720"/>
            <a:ext cx="8229600" cy="364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Lucida Sans Unicode"/>
              </a:rPr>
              <a:t>                               </a:t>
            </a:r>
            <a:endParaRPr b="0" lang="en-US" sz="5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5400" spc="-1" strike="noStrike">
                <a:solidFill>
                  <a:srgbClr val="000000"/>
                </a:solidFill>
                <a:latin typeface="HY강B"/>
                <a:ea typeface="HY강B"/>
              </a:rPr>
              <a:t>푸드바인드</a:t>
            </a:r>
            <a:r>
              <a:rPr b="0" lang="en-US" sz="54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5400" spc="-1" strike="noStrike">
                <a:solidFill>
                  <a:srgbClr val="000000"/>
                </a:solidFill>
                <a:latin typeface="HY강B"/>
                <a:ea typeface="HY강B"/>
              </a:rPr>
              <a:t>멜라민파동</a:t>
            </a: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2" name="제목 2" descr=""/>
          <p:cNvPicPr/>
          <p:nvPr/>
        </p:nvPicPr>
        <p:blipFill>
          <a:blip r:embed="rId1"/>
          <a:stretch/>
        </p:blipFill>
        <p:spPr>
          <a:xfrm>
            <a:off x="622440" y="2724120"/>
            <a:ext cx="824040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34" name="AutoShape 3"/>
          <p:cNvSpPr/>
          <p:nvPr/>
        </p:nvSpPr>
        <p:spPr>
          <a:xfrm>
            <a:off x="1143000" y="2825640"/>
            <a:ext cx="2765520" cy="2073240"/>
          </a:xfrm>
          <a:prstGeom prst="roundRect">
            <a:avLst>
              <a:gd name="adj" fmla="val 6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5" name="AutoShape 5"/>
          <p:cNvSpPr/>
          <p:nvPr/>
        </p:nvSpPr>
        <p:spPr>
          <a:xfrm>
            <a:off x="990720" y="2825640"/>
            <a:ext cx="2765160" cy="20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36" name="foodbind.avi" descr=""/>
          <p:cNvPicPr/>
          <p:nvPr/>
        </p:nvPicPr>
        <p:blipFill>
          <a:blip r:embed="rId2"/>
          <a:stretch/>
        </p:blipFill>
        <p:spPr>
          <a:xfrm>
            <a:off x="3048120" y="260028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1334" fill="hold"/>
                                        <p:tgtEl>
                                          <p:spTgt spid="4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435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435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4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" restart="whenNotActive" nodeType="interactiveSeq" fill="hold">
                <p:stCondLst>
                  <p:cond evt="onClick">
                    <p:tgtEl>
                      <p:spTgt spid="436"/>
                    </p:tgtEl>
                  </p:cond>
                </p:stCondLst>
                <p:childTnLst>
                  <p:par>
                    <p:cTn id="13" fill="hold">
                      <p:stCondLst>
                        <p:cond evt="onClick">
                          <p:tgtEl>
                            <p:spTgt spid="436"/>
                          </p:tgtEl>
                        </p:cond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6" dur="1" fill="hold"/>
                                        <p:tgtEl>
                                          <p:spTgt spid="4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Rectangle 1" descr=""/>
          <p:cNvPicPr/>
          <p:nvPr/>
        </p:nvPicPr>
        <p:blipFill>
          <a:blip r:embed="rId1"/>
          <a:stretch/>
        </p:blipFill>
        <p:spPr>
          <a:xfrm>
            <a:off x="195120" y="285840"/>
            <a:ext cx="8498160" cy="1098360"/>
          </a:xfrm>
          <a:prstGeom prst="rect">
            <a:avLst/>
          </a:prstGeom>
          <a:ln w="0">
            <a:noFill/>
          </a:ln>
        </p:spPr>
      </p:pic>
      <p:sp>
        <p:nvSpPr>
          <p:cNvPr id="438" name="PlaceHolder 1"/>
          <p:cNvSpPr>
            <a:spLocks noGrp="1"/>
          </p:cNvSpPr>
          <p:nvPr>
            <p:ph/>
          </p:nvPr>
        </p:nvSpPr>
        <p:spPr>
          <a:xfrm>
            <a:off x="457200" y="1604520"/>
            <a:ext cx="82281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계란흰자분말과감자전분등이 주원료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잘게 부숴진 고기를 결합시키는 용도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고가의 갈비를 정상적인방법으로 위생적으로 조리할때 사용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인체에는 무해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40" name="PlaceHolder 1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해결방안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생갈비와 접착갈비 법적구분을 정확하게 제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집중단속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축산물가공처리 법과 시행규칙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농림부 고시 등 관계 법령을 수정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42" name="AutoShape 3"/>
          <p:cNvSpPr/>
          <p:nvPr/>
        </p:nvSpPr>
        <p:spPr>
          <a:xfrm>
            <a:off x="1143000" y="2940120"/>
            <a:ext cx="2765520" cy="2073240"/>
          </a:xfrm>
          <a:prstGeom prst="roundRect">
            <a:avLst>
              <a:gd name="adj" fmla="val 6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3" name="AutoShape 5"/>
          <p:cNvSpPr/>
          <p:nvPr/>
        </p:nvSpPr>
        <p:spPr>
          <a:xfrm>
            <a:off x="1143000" y="2940120"/>
            <a:ext cx="2765520" cy="20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44" name="mel.avi" descr=""/>
          <p:cNvPicPr/>
          <p:nvPr/>
        </p:nvPicPr>
        <p:blipFill>
          <a:blip r:embed="rId2"/>
          <a:stretch/>
        </p:blipFill>
        <p:spPr>
          <a:xfrm>
            <a:off x="3048120" y="260028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" dur="39267" fill="hold"/>
                                        <p:tgtEl>
                                          <p:spTgt spid="4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" restart="whenNotActive" nodeType="interactiveSeq" fill="hold">
                <p:stCondLst>
                  <p:cond evt="onClick">
                    <p:tgtEl>
                      <p:spTgt spid="443"/>
                    </p:tgtEl>
                  </p:cond>
                </p:stCondLst>
                <p:childTnLst>
                  <p:par>
                    <p:cTn id="24" fill="hold">
                      <p:stCondLst>
                        <p:cond evt="onClick">
                          <p:tgtEl>
                            <p:spTgt spid="443"/>
                          </p:tgtEl>
                        </p:cond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7" dur="1" fill="hold"/>
                                        <p:tgtEl>
                                          <p:spTgt spid="4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" restart="whenNotActive" nodeType="interactiveSeq" fill="hold">
                <p:stCondLst>
                  <p:cond evt="onClick">
                    <p:tgtEl>
                      <p:spTgt spid="444"/>
                    </p:tgtEl>
                  </p:cond>
                </p:stCondLst>
                <p:childTnLst>
                  <p:par>
                    <p:cTn id="29" fill="hold">
                      <p:stCondLst>
                        <p:cond evt="onClick">
                          <p:tgtEl>
                            <p:spTgt spid="444"/>
                          </p:tgtEl>
                        </p:cond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2" dur="1" fill="hold"/>
                                        <p:tgtEl>
                                          <p:spTgt spid="4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46" name="PlaceHolder 1"/>
          <p:cNvSpPr>
            <a:spLocks noGrp="1"/>
          </p:cNvSpPr>
          <p:nvPr>
            <p:ph/>
          </p:nvPr>
        </p:nvSpPr>
        <p:spPr>
          <a:xfrm>
            <a:off x="457200" y="1419120"/>
            <a:ext cx="8228160" cy="471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신장결석이나 신부전증 환자가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53,000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명이 발생하였고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이 중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12,800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명은 입원치료를 받고 있으며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4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명의 유아가 사망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멜라민은 우유에 첨가할 경우 단백질의 함유량을 실제보다 부풀릴 수 있기에 사용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중국산 식품에 대한 신뢰도 큰 타격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7" name="Rectangle 1" descr=""/>
          <p:cNvPicPr/>
          <p:nvPr/>
        </p:nvPicPr>
        <p:blipFill>
          <a:blip r:embed="rId1"/>
          <a:stretch/>
        </p:blipFill>
        <p:spPr>
          <a:xfrm>
            <a:off x="195120" y="285840"/>
            <a:ext cx="8498160" cy="1098360"/>
          </a:xfrm>
          <a:prstGeom prst="rect">
            <a:avLst/>
          </a:prstGeom>
          <a:ln w="0">
            <a:noFill/>
          </a:ln>
        </p:spPr>
      </p:pic>
      <p:sp>
        <p:nvSpPr>
          <p:cNvPr id="448" name="PlaceHolder 1"/>
          <p:cNvSpPr>
            <a:spLocks noGrp="1"/>
          </p:cNvSpPr>
          <p:nvPr>
            <p:ph/>
          </p:nvPr>
        </p:nvSpPr>
        <p:spPr>
          <a:xfrm>
            <a:off x="457200" y="1604520"/>
            <a:ext cx="82281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해결방안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정부가 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위해 요소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와 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품질 관리 요소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를 명확히 구분해 정책을 수립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집행 해야함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식품안전처와 같은 제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의 독립기구 설립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제목 3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089920" cy="1841400"/>
          </a:xfrm>
          <a:prstGeom prst="rect">
            <a:avLst/>
          </a:prstGeom>
          <a:ln w="0">
            <a:noFill/>
          </a:ln>
        </p:spPr>
      </p:pic>
      <p:sp>
        <p:nvSpPr>
          <p:cNvPr id="450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27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제목 4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089920" cy="1841400"/>
          </a:xfrm>
          <a:prstGeom prst="rect">
            <a:avLst/>
          </a:prstGeom>
          <a:ln w="0">
            <a:noFill/>
          </a:ln>
        </p:spPr>
      </p:pic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464646"/>
                </a:solidFill>
                <a:latin typeface="HY강B"/>
                <a:ea typeface="HY강B"/>
              </a:rPr>
              <a:t>가발</a:t>
            </a:r>
            <a:r>
              <a:rPr b="0" lang="en-US" sz="4000" spc="-1" strike="noStrike">
                <a:solidFill>
                  <a:srgbClr val="464646"/>
                </a:solidFill>
                <a:latin typeface="HY강B"/>
                <a:ea typeface="HY강B"/>
              </a:rPr>
              <a:t>,</a:t>
            </a:r>
            <a:r>
              <a:rPr b="0" lang="ko-KR" sz="4000" spc="-1" strike="noStrike">
                <a:solidFill>
                  <a:srgbClr val="464646"/>
                </a:solidFill>
                <a:latin typeface="HY강B"/>
                <a:ea typeface="HY강B"/>
              </a:rPr>
              <a:t>인조속눈썹</a:t>
            </a:r>
            <a:r>
              <a:rPr b="0" lang="en-US" sz="4000" spc="-1" strike="noStrike">
                <a:solidFill>
                  <a:srgbClr val="464646"/>
                </a:solidFill>
                <a:latin typeface="HY강B"/>
                <a:ea typeface="HY강B"/>
              </a:rPr>
              <a:t>,</a:t>
            </a:r>
            <a:r>
              <a:rPr b="0" lang="ko-KR" sz="4000" spc="-1" strike="noStrike">
                <a:solidFill>
                  <a:srgbClr val="464646"/>
                </a:solidFill>
                <a:latin typeface="HY강B"/>
                <a:ea typeface="HY강B"/>
              </a:rPr>
              <a:t>아이참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456840" y="1143000"/>
            <a:ext cx="8427960" cy="523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분장용이나 장식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무대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·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연예용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·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의례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·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법관용 등 특종 직업용 사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속눈썹숱이적어 마스카라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효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보지못하는사람위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쌍커풀이 없거나 쌍커풀선이 약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사람들이 이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5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탈모용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전체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부분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패션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악세서리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연극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마네킹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코스프레용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의료용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익스텐션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짧은머리를 긴머리로바꾸는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붙임머리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7" name="Rectangle 2" descr=""/>
          <p:cNvPicPr/>
          <p:nvPr/>
        </p:nvPicPr>
        <p:blipFill>
          <a:blip r:embed="rId1"/>
          <a:stretch/>
        </p:blipFill>
        <p:spPr>
          <a:xfrm>
            <a:off x="360360" y="268200"/>
            <a:ext cx="833292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형태별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눈썹의 양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길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색상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심는형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눈썹의 숱 많이 표현 하고자       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하는부위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굵고 긴 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굵고 짧은 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얇고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긴 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얇고 짧은 형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9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Picture 4" descr="접착제"/>
          <p:cNvPicPr/>
          <p:nvPr/>
        </p:nvPicPr>
        <p:blipFill>
          <a:blip r:embed="rId1"/>
          <a:stretch/>
        </p:blipFill>
        <p:spPr>
          <a:xfrm>
            <a:off x="763560" y="1600200"/>
            <a:ext cx="3398760" cy="452592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 txBox="1"/>
          <p:nvPr/>
        </p:nvSpPr>
        <p:spPr>
          <a:xfrm>
            <a:off x="4162320" y="1600200"/>
            <a:ext cx="4694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HY강B"/>
                <a:ea typeface="HY강B"/>
              </a:rPr>
              <a:t>: </a:t>
            </a:r>
            <a:r>
              <a:rPr b="0" lang="ko-KR" sz="3200" spc="-1" strike="noStrike" u="sng">
                <a:solidFill>
                  <a:srgbClr val="ffffff"/>
                </a:solidFill>
                <a:uFillTx/>
                <a:latin typeface="HY강B"/>
                <a:ea typeface="HY강B"/>
              </a:rPr>
              <a:t>노테이프본드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실리콘접착제로 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고정부착형가발에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사용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, 2-3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주이상의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강한접착력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92" name="제목 1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내용 개체 틀 10" descr="5482855381.jpg"/>
          <p:cNvPicPr/>
          <p:nvPr/>
        </p:nvPicPr>
        <p:blipFill>
          <a:blip r:embed="rId1"/>
          <a:stretch/>
        </p:blipFill>
        <p:spPr>
          <a:xfrm>
            <a:off x="846000" y="2033640"/>
            <a:ext cx="3206880" cy="3562200"/>
          </a:xfrm>
          <a:prstGeom prst="rect">
            <a:avLst/>
          </a:prstGeom>
          <a:ln w="0">
            <a:noFill/>
          </a:ln>
        </p:spPr>
      </p:pic>
      <p:sp>
        <p:nvSpPr>
          <p:cNvPr id="394" name=""/>
          <p:cNvSpPr txBox="1"/>
          <p:nvPr/>
        </p:nvSpPr>
        <p:spPr>
          <a:xfrm>
            <a:off x="4340160" y="1600200"/>
            <a:ext cx="4346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인조속눈썹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 u="sng">
                <a:solidFill>
                  <a:srgbClr val="ffffff"/>
                </a:solidFill>
                <a:uFillTx/>
                <a:latin typeface="HY강B"/>
                <a:ea typeface="HY강B"/>
              </a:rPr>
              <a:t>글루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접착제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i="1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아세트산비닐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i="1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수지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로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독성이없어 안전하며 마른후에도 씻어낼수있음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95" name="제목 6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 txBox="1"/>
          <p:nvPr/>
        </p:nvSpPr>
        <p:spPr>
          <a:xfrm>
            <a:off x="4648320" y="1582200"/>
            <a:ext cx="40384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3.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아이참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양면성 테이프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점착제가 발라져 있음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풀이나 고무풀 등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97" name="내용 개체 틀 4" descr="123.jpg"/>
          <p:cNvPicPr/>
          <p:nvPr/>
        </p:nvPicPr>
        <p:blipFill>
          <a:blip r:embed="rId1"/>
          <a:stretch/>
        </p:blipFill>
        <p:spPr>
          <a:xfrm>
            <a:off x="287280" y="2224080"/>
            <a:ext cx="4038480" cy="2735280"/>
          </a:xfrm>
          <a:prstGeom prst="rect">
            <a:avLst/>
          </a:prstGeom>
          <a:ln w="0">
            <a:noFill/>
          </a:ln>
        </p:spPr>
      </p:pic>
      <p:pic>
        <p:nvPicPr>
          <p:cNvPr id="398" name="제목 1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1T12:28:52Z</dcterms:created>
  <dc:creator>sec</dc:creator>
  <dc:description/>
  <dc:language>en-US</dc:language>
  <cp:lastModifiedBy>sec</cp:lastModifiedBy>
  <dcterms:modified xsi:type="dcterms:W3CDTF">2009-12-02T04:33:16Z</dcterms:modified>
  <cp:revision>29</cp:revision>
  <dc:subject/>
  <dc:title>등잔밑이 어둡다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0</vt:r8>
  </property>
</Properties>
</file>